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895-B917-43B8-B649-8922C4A7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DCA-1751-47C4-B48F-02D7F055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C40-A9BD-472F-A298-FE5E373D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A8E-39BE-41F0-9A19-866925DA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D3F-EE7B-47C8-832C-820B7A53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938-7EBC-44D4-B96E-87DF888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4A0-B32E-4E50-A1EF-E03E63A3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076-D8DE-4F0A-90E1-344FA76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A19-2CB0-466E-A4F8-868087D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36F-F408-4D8F-A482-601B9E2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27D-2BE0-4074-8FBE-82F23F7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624-5F5D-4E9B-9C25-657E6547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C16-1221-4B49-A903-963A7F1CBE8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Reflection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reflection ess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mmary of the material studied in class that comes in a written form as your response/thoughts about what you’ve lear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what you have learned during the class and how it will assist you in achieving further academic and work related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your strategies for capitalizing on your strengths and overcoming your weaknesses in order to become a successful write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What are included in a reflection paper?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happened (learning to write) in this clas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evant material (theories, concepts) learned from the cou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ncept/idea/theory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happened (your writing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ramm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hetor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riting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riting topics discove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LH char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onna Ogle, 198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 - Recall what you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NE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subject before the course start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 -  Recall what you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WA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 to learn in the beginning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- Identify what you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LEAR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 so fa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-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you can learn more (e.g. other sources where additional information on the topic can be found; other practicing chanc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0040" y="3714840"/>
          <a:ext cx="8286840" cy="2394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hat I K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hat I Wanted to 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hat I’ve L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ow I can Learn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pers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 pages lo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out 500 words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uble 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formal language and correct spelling and punc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pics have to be chosen and specifi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re can be one major, or several small topics in a reflection pap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s reflected upon include any information covered in class or in the reading from the beginning of the semester to the pres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pers may t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 or  2 topics and examine them deep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e topics examined in less deta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riting, consider the following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ave I studied/learned that is interest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ew things have I learn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as my learning affected preconceptions or misconceptions I brought with me into clas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nges do I make based on what I newly lear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else do I want to lear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I learn mor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draft first that will give you an understanding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ow many and how long your paragraphs will 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hat is going to be the stateme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hat facts you are going to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08:40:54Z</dcterms:created>
  <dc:creator>Windows 使用者</dc:creator>
  <dc:description/>
  <dc:language>en-US</dc:language>
  <cp:lastModifiedBy>Windows 使用者</cp:lastModifiedBy>
  <dcterms:modified xsi:type="dcterms:W3CDTF">2009-06-05T04:45:23Z</dcterms:modified>
  <cp:revision>13</cp:revision>
  <dc:subject/>
  <dc:title>投影片 1</dc:title>
</cp:coreProperties>
</file>